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F9CB-25D7-4FB4-8EA7-58682EB15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129D-B563-4F89-99EF-86E8E5077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BCA-276D-429F-BDA5-CEDAE6B9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2757-1D97-41DB-9CB4-EE3BDA67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FE3-627A-4325-B5E3-A346310D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65B-34CD-4667-89E8-4AA74C00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B29-55DB-4F60-AADD-6E34820A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0BC-20DA-4800-A5AE-100EE70E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DD0-3703-408B-8236-3F683B77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D15-E478-4DEC-9942-4497CD59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BF7-0917-41CC-BC4E-C1976883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873-D28F-44ED-8234-865FE131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8E2-5EA8-470E-88A8-62129EA5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4E2-9423-44ED-8512-03E4C1DB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6D13-0A59-490A-8BDD-D471C3B4A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llamo Lesley. Yo vivo en Queens, Nueve York.  Yo tengo 14 años. Yo tengo una hermana y un hermano. Yo soy chistosa y mi gusta la mu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25456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01:57Z</dcterms:modified>
  <cp:revision>98</cp:revision>
  <dc:subject/>
  <dc:title>Profile</dc:title>
</cp:coreProperties>
</file>